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B9D-5CAB-4937-BCF2-3D57A7BF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C72-5D4B-4566-AAD7-C7A0A832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168-EB85-4A7C-8D1D-C9AB65D9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5B8-D4C0-4D86-9C94-22D0CD43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C62-9D2D-407B-95CB-356B50CA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460-D408-49D8-B857-1E92BAA2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135-5A01-4B7E-9DE4-4D46EECB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750-D25B-47FF-8EFB-AE9459AA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92B-5252-4213-923A-18DDC84E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F15-1CF4-4525-B925-B3F489AA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589-7E89-47E4-A220-E8229329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71F-55C0-4F88-A0C0-CDB9C08C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ED88-5630-4E96-8461-F4ACAD197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metric Op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200240"/>
            <a:ext cx="622296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-106200"/>
          <a:ext cx="7696080" cy="70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-106200"/>
                    <a:ext cx="7696080" cy="70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-914400"/>
            <a:ext cx="54374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61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bject inside the focus casts a virtual image that is only focused by the ey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ave Lenses bending toward the normal on an oppositely curved surface (concave) diverges the light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545000" cy="472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81480" y="213372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cusing and Spherical Aber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9144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57400" y="4648320"/>
            <a:ext cx="18288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648320"/>
            <a:ext cx="18288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4572000"/>
            <a:ext cx="22860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4572000"/>
            <a:ext cx="22860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426708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426708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429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rrors and lenses with circular curvature create spherical aberration, where rays from the top edges of the mirror don’t f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herical aberration is corrected by making the lens shape more parabo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omatic Aberra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 bends more. This cannot be corrected. You could minimize it it by using less of the lens edges (closing down the aper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05520" y="236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74520"/>
            <a:ext cx="7467480" cy="67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235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791320"/>
            <a:ext cx="784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 mirrors produce images that are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3:53:49Z</dcterms:created>
  <dc:creator>TZ</dc:creator>
  <dc:description/>
  <dc:language>en-US</dc:language>
  <cp:lastModifiedBy>SOCSD</cp:lastModifiedBy>
  <dcterms:modified xsi:type="dcterms:W3CDTF">2009-05-08T12:08:48Z</dcterms:modified>
  <cp:revision>3</cp:revision>
  <dc:subject/>
  <dc:title>Geometric Optics</dc:title>
</cp:coreProperties>
</file>